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E4F-3EE2-4C87-9B5A-C472F43C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9E1-6912-410F-BA20-202A70AC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F1C1-99B0-47C9-ABAB-C917D223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5C9-52D8-4280-8086-6BFE73C5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2B8-BF5F-46C3-ADBB-7FF2A63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A6-32CD-4A40-A3D7-46B7AE3F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483-6417-4752-8DF9-AFB71146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E56-8047-452D-B430-2AA6E186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F99-15ED-42D7-915A-7A9DCF6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F42-5579-43B4-850B-344F93B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5D6-909F-4087-A09A-D4F7538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31F-883A-4519-97F2-8B801189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F237-BBEB-4EDF-8BBC-04EB5F0C3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gou.com/sogoupedia?query=&#20154;&#27665;&#22823;&#20250;&#22530;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268280"/>
            <a:ext cx="5112000" cy="70344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2133720"/>
            <a:ext cx="5905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树立社会主义荣辱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746720"/>
            <a:ext cx="9144000" cy="126576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人民大会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人大礼堂正在召开大型重要会议，忽然一位坐着听会的人站起来，转过身让别人帮忙以主席台为背景照相留念；在著名风景区，总有一些游人乱写乱画“某某到此一游”；在城市下班高峰期，马路本来就十分拥挤，但却不断有人驾车强行超车，有行人闯红灯、翻护栏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4880" y="4797360"/>
            <a:ext cx="1764000" cy="58140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良好文明习惯、社会公德的养成需要“言行一致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2162160"/>
            <a:ext cx="8764560" cy="210492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银妹代表：良好的公共道德是一个民族的宝贵资源。当前道德滑坡已到了令人担忧的地步。在日常生活中，良好的文明习惯、公共道德是人们所呼唤、所赞扬的，但种种现象却显示出不少人的言行不一。道德在养，但也在建。全社会都要认识到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秩序失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仅会害别人，也会殃及自己。德育不仅仅是孩子们的课程，也是成年人的“公共课”。团结友爱是和谐社会之“核”，损人利己是和谐社会之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维义委员：好的文明习惯、社会公德需要引导，要时刻想着尊重别人、尊重自己。要在社会上营造一种让不文明、不讲公德者觉得“不好意思”的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Dotum"/>
              </a:rPr>
              <a:t>ＱＵＥＳＴＩＯＮ　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华文彩云"/>
              </a:rPr>
              <a:t>同学们认为“八荣八耻”中有哪些可以和我们的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华文行楷"/>
              </a:rPr>
              <a:t>学习生活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华文彩云"/>
              </a:rPr>
              <a:t>联系在一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华文彩云"/>
              </a:rPr>
              <a:t>ＰＬＥＡＳＥ，ＨＡＮＤＳ　Ｕ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260280"/>
            <a:ext cx="712800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怎样看待诚信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43000" y="1844640"/>
            <a:ext cx="6858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怎样看待学习生活中的秩序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333360"/>
            <a:ext cx="8497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对于“八荣八耻”，仅仅铭记不够，还要体现在行动上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4228200" y="4724280"/>
            <a:ext cx="3360960" cy="64260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事情”维系“大荣辱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5357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07240" y="3123000"/>
            <a:ext cx="54612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泉州某小区的一位居民拧紧正在滴水的水龙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是在河南郑州火车站售票大厅内，旅客在一米线外排队等待购票  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摄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07440" y="580536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山东济南师范附属小学的“城管小卫士”在清理街头“牛皮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475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同学们，我们还有哪些可以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ＷＨＡＴ　ＭＯＲＥ　ＣＡＮ　ＷＥ　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Ｄ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，　ＢＯＹＳ　ＡＮＤ　ＧＩＲＬＳ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3600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5960"/>
            <a:ext cx="1342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是在穷乡僻壤，就是在繁华的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中心，也经常在路边看到测“八字”、看相的算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生在给人讲解吉凶福祸；有的公司招聘，入选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竟然是看应聘者的名字是否吉利……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公众具备基本科学素养的比例一直没有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中平均只有不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人具备基本的科学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，与发达国家相比，我国仍然十分落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39520" y="4221000"/>
            <a:ext cx="5831640" cy="52056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公众具备基本科学素养，崇尚科学需持续努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38160"/>
            <a:ext cx="9144000" cy="119124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渝生委员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科学是在同愚昧无知的斗争中发展起来的，倡导科学，就肯定要反对愚昧无知；科学盛则愚昧消，反之也一样。我国公众科学素养不太高与过去重经济建设、物质建设，轻精神文明、科学文化建设有关。要崇尚科学，需要全社会的努力，而不只是科技界的事。最近发布的国家中长期科学和技术发展规划纲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2006-20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明确提出，在全社会大力弘扬科学精神，宣传科学思想，推广科学方法，普及科学知识。当然，这是一个长期的潜移默化的过程，需要广大人民群众持续不懈地努力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2920" y="1706760"/>
            <a:ext cx="9001080" cy="228852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春节前，杭州一家餐厅向社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推出预订豪华年夜饭，其中价格最贵的一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竟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9.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元。一桌年夜饭要吃掉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元，一盒月饼能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元，近年来大城市里兴起了一股铺张浪费、华而不实之风，而且呈蔓延态势。在晋北某产煤县，为庆祝元宵节，竟然在县城里建造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座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高的煤炭“大旺火”，每座“大旺火”需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吨优质煤炭和为数不少的木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5320" y="5950080"/>
            <a:ext cx="5622480" cy="58140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论社会发展到什么程度，都没有浪费的理由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61760"/>
            <a:ext cx="9048600" cy="94716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刘坚委员：改革开放以来，人民生活水平有了很大提高，但不要忘了还有大量贫困人口。保持艰苦奋斗的作风，对我们这个并不十分富裕的国家来说非常重要。我们鼓励合理适度的消费，绝不是骄奢淫逸。那些能一掷千金的人，与其把钱挥霍掉还不如拿出来做慈善事业，“扶贫济困”是中华民族的优良传统，这样也有助于构建和谐社会。对于过度铺张浪费的行为，建议利用税收等经济杠杆加以制裁；另外加强舆论宣传，营造艰苦奋斗、节约光荣的社会氛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戴兴旺代表：无论社会发展到什么程度，我们都没有浪费的理由，要用严格的部门预算办法遏止公款吃喝风；用举报、舆论监督等办法，盯住手握权力的公职人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之外的“吃饭线路图”，尽可能减少饭桌上的权钱交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彩云"/>
              </a:rPr>
              <a:t>QUESTION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问同学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彩云"/>
              </a:rPr>
              <a:t>在以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行楷"/>
              </a:rPr>
              <a:t>艰苦奋斗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彩云"/>
              </a:rPr>
              <a:t>为荣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行楷"/>
              </a:rPr>
              <a:t>骄奢淫逸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彩云"/>
              </a:rPr>
              <a:t>为耻方面，我们有哪些行为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行楷"/>
              </a:rPr>
              <a:t>违背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彩云"/>
              </a:rPr>
              <a:t>了它，又有哪些行为需要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行楷"/>
              </a:rPr>
              <a:t>改进</a:t>
            </a:r>
            <a:r>
              <a:rPr b="0" lang="zh-CN" sz="4800" spc="-1" strike="noStrike">
                <a:solidFill>
                  <a:srgbClr val="1c1c1c"/>
                </a:solidFill>
                <a:latin typeface="Arial"/>
                <a:ea typeface="华文彩云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73440"/>
            <a:ext cx="9144000" cy="204372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京一个住宅小区规划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7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万平方米绿地后来多数被侵占，小区建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年，用电仍是工业用电，锅炉房也是临时性的。房地产开发商、中介机构和媒体联合，恶意炒作，虚构买卖合同，囤积房源，哄抬房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财政部组织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家房地产企业的会计信息质量进行专项调查，发现房地产企业存在会计信息失真、隐瞒利润、逃避纳税、骗取银行信用等问题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68200" y="4522680"/>
            <a:ext cx="1215000" cy="64260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诚信是一种重要社会资本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17720"/>
            <a:ext cx="9144000" cy="1617480"/>
          </a:xfrm>
          <a:prstGeom prst="rect">
            <a:avLst/>
          </a:prstGeom>
          <a:solidFill>
            <a:srgbClr val="dfb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韩兴旺委员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我国市场经济发展还处于初级阶段，人们的信用观念和信用基础相对薄弱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诚信是中华民族一种传统美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人们在社会交往中只有诚信守法，才能实现相互的交流和理解，从而建立相互信任、相互尊重和相互依赖的良好社会关系。诚信是市场主体的一种重要社会资本，无论任何个人和部门、企业，只有诚实守信才能建立良好的市场信誉。现代社会要求信用成为一种制度是一个必然趋势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诚信是一种宝贵的品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有助于营造良好的社会风尚，构建和谐有序的社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39:3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1:46Z</dcterms:modified>
  <cp:revision>9</cp:revision>
  <dc:subject>主题班会课件(分28大类): http://shop62905894.taobao.com</dc:subject>
  <dc:title>主题班会课件(分28大类): http://shop62905894.taobao.com</dc:title>
</cp:coreProperties>
</file>